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AE35-CAE2-444B-841A-195B3D053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7173-47F6-490D-899F-856EDD921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ST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3781-A794-4B9A-8B4B-825A43E6CA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9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5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02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0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1590840" y="1752120"/>
            <a:ext cx="71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R Mali Evalu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360160" y="3580920"/>
            <a:ext cx="5380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"/>
              </a:rPr>
              <a:t>I. Hoeschle-Zeled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"/>
              </a:rPr>
              <a:t>Coordinator Africa RISING ESA and W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"/>
              </a:rPr>
              <a:t>Bamako, 8 January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48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89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Feedback of research results to R4D platforms and farm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9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Address farmers’ request for inter-farm visits and field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marL="27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Monitoring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Assemble socially disaggregated data of project particip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Studies on technology integration into farming activities, case studies on hh resource allo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Question research hypoth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Gender research around technolog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4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Data Management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Use of PMMT, inclusion of data from NARS in PMM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Data sharing according to data managemen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Partners WA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415" name="Group 13"/>
          <p:cNvGrpSpPr/>
          <p:nvPr/>
        </p:nvGrpSpPr>
        <p:grpSpPr>
          <a:xfrm>
            <a:off x="838080" y="4867200"/>
            <a:ext cx="7391520" cy="1824120"/>
            <a:chOff x="838080" y="4867200"/>
            <a:chExt cx="7391520" cy="1824120"/>
          </a:xfrm>
        </p:grpSpPr>
        <p:pic>
          <p:nvPicPr>
            <p:cNvPr id="416" name="Picture 2" descr=""/>
            <p:cNvPicPr/>
            <p:nvPr/>
          </p:nvPicPr>
          <p:blipFill>
            <a:blip r:embed="rId1"/>
            <a:stretch/>
          </p:blipFill>
          <p:spPr>
            <a:xfrm>
              <a:off x="7576920" y="4867200"/>
              <a:ext cx="652680" cy="7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3" descr=""/>
            <p:cNvPicPr/>
            <p:nvPr/>
          </p:nvPicPr>
          <p:blipFill>
            <a:blip r:embed="rId2"/>
            <a:stretch/>
          </p:blipFill>
          <p:spPr>
            <a:xfrm>
              <a:off x="4216680" y="5978880"/>
              <a:ext cx="675360" cy="67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996480" y="4981680"/>
              <a:ext cx="372600" cy="67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2" descr="P:\logos\i\ICRISAT\icrisat-logo.jpg"/>
            <p:cNvPicPr/>
            <p:nvPr/>
          </p:nvPicPr>
          <p:blipFill>
            <a:blip r:embed="rId4"/>
            <a:stretch/>
          </p:blipFill>
          <p:spPr>
            <a:xfrm>
              <a:off x="838080" y="6118560"/>
              <a:ext cx="1434960" cy="53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6" descr="AVRDC – The World Vegetable Center — avrdc.org"/>
            <p:cNvPicPr/>
            <p:nvPr/>
          </p:nvPicPr>
          <p:blipFill>
            <a:blip r:embed="rId5"/>
            <a:srcRect l="0" t="0" r="63858" b="0"/>
            <a:stretch/>
          </p:blipFill>
          <p:spPr>
            <a:xfrm>
              <a:off x="4876920" y="5040360"/>
              <a:ext cx="1872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7" descr="P:\logos\i\iita\IITA_regular-sienna_with slogan (2).JPG"/>
            <p:cNvPicPr/>
            <p:nvPr/>
          </p:nvPicPr>
          <p:blipFill>
            <a:blip r:embed="rId6"/>
            <a:stretch/>
          </p:blipFill>
          <p:spPr>
            <a:xfrm>
              <a:off x="2819160" y="5051160"/>
              <a:ext cx="1069200" cy="53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9" descr=""/>
            <p:cNvPicPr/>
            <p:nvPr/>
          </p:nvPicPr>
          <p:blipFill>
            <a:blip r:embed="rId7"/>
            <a:stretch/>
          </p:blipFill>
          <p:spPr>
            <a:xfrm>
              <a:off x="7281360" y="5987880"/>
              <a:ext cx="936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1" descr=""/>
            <p:cNvPicPr/>
            <p:nvPr/>
          </p:nvPicPr>
          <p:blipFill>
            <a:blip r:embed="rId8"/>
            <a:stretch/>
          </p:blipFill>
          <p:spPr>
            <a:xfrm>
              <a:off x="2819160" y="5987880"/>
              <a:ext cx="703440" cy="7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3" descr=""/>
            <p:cNvPicPr/>
            <p:nvPr/>
          </p:nvPicPr>
          <p:blipFill>
            <a:blip r:embed="rId9"/>
            <a:stretch/>
          </p:blipFill>
          <p:spPr>
            <a:xfrm>
              <a:off x="5638680" y="5947920"/>
              <a:ext cx="705240" cy="72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13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oday’s focu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tner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ata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mendations related to research activities will be discussed during workplan rev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30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Management (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p. V and 4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60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Streamlining approval of work plan and budgets, ease of fund transfers to national partners, reporting schedules aligned to season, mentoring partners in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60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atching budgets with work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60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mproving communication between partners, remove silo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37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v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Re-engaging IER, build their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athway to impact: collaboration with development partners and projects, monitoring technology upt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i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Completion of logframe, include theory of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520" y="1676160"/>
            <a:ext cx="77724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marL="16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Resources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ii and 4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Qualified research coordinator in each distr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obility of stud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inimise # of short-term/part-time scient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entoring new staff, cross-team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National partners supported with transport and research as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41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Implementation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ii and 7-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R4D platforms at different levels to be operationalized, link activities to the platforms (prioritization, demand driven resear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0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Role, facilitation and management of platforms to be clarified and agreed upon; AMEDD and AMASSA to facilitate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164880" indent="-1454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Establishment of at least two research hubs with government and development organizations integrated, all partners to work at these hu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-1454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ulling different surveys together to provide holistic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articipatory budgets and cost–benefit analysis of SI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i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Attention to impact of technology changes on g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33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Partnerships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, vi and 37-3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Limit lengthy and complex compliance arrangements, timely submission of workplans and reports, timely funding of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ntegration of activities by different research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mprove communication among partners: calendar, meetings, semin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29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v.  Closer and broadened collaboration with IER for better ownership of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nformation of USAID mission and their bilateral projects; development partners to establish demonstrations near Africa RISING  comm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NGOs to facilitate R4D Platforms, development partners to become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10:09:38Z</dcterms:created>
  <dc:creator>IZeledon</dc:creator>
  <dc:description/>
  <dc:language>en-US</dc:language>
  <cp:lastModifiedBy>Jonathan Odhong</cp:lastModifiedBy>
  <cp:lastPrinted>2011-10-06T11:45:23Z</cp:lastPrinted>
  <dcterms:modified xsi:type="dcterms:W3CDTF">2015-03-22T08:51:31Z</dcterms:modified>
  <cp:revision>29</cp:revision>
  <dc:subject/>
  <dc:title>Slide 1</dc:title>
</cp:coreProperties>
</file>